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2252-91A2-4DFF-82CD-F308F4570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7207-2253-47AC-8253-DD18ADC2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7699-A4B1-44A8-9964-24984E0D6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06A8-3E97-4572-9A14-3D1683434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E25D-1099-4D55-9472-FE5BDAABA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F30B-C36A-44D3-97FB-BE6594F0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B060-BC7B-4C2A-8DCD-F3C9E40A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A00F-0B87-498F-8AE7-C6F10886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8789-55CF-491F-9ADB-4DFA9E36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D5C2-E353-4BEF-9075-3F12EFA6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5E2C-9929-44FA-868E-CBF01C7D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17FB-C7AA-44FB-879F-2FBFBE3D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C7F1-30E3-49E0-BAD8-24DA3629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27BC-4350-4358-BFAD-2B27C3BD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B345-2071-4F8C-8290-B7720ADB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9D94-A8D3-47D5-A3DC-C0263CA5F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A0D8-01FC-41A1-BC5C-2521A2D90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7992-A018-4909-BE8D-BB5690B0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2CF1-FEB4-4EEE-BB9B-71FB0454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99CF-78D5-4A51-9B71-C59525D5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0FE3-6A01-468C-961A-269EB57B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13F5-AF9C-44FC-8087-AFFA3068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37CF-324C-4356-9790-2D6989E5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40E0-CBF1-468A-8851-B6D06E6F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404E-A490-4699-B629-F47851CA21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84E4-DAF4-4282-81D0-C1F7716449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Text Box 9"/>
          <p:cNvGrpSpPr/>
          <p:nvPr/>
        </p:nvGrpSpPr>
        <p:grpSpPr>
          <a:xfrm>
            <a:off x="476280" y="1384200"/>
            <a:ext cx="4913280" cy="1535040"/>
            <a:chOff x="476280" y="1384200"/>
            <a:chExt cx="4913280" cy="1535040"/>
          </a:xfrm>
        </p:grpSpPr>
        <p:pic>
          <p:nvPicPr>
            <p:cNvPr id="89" name="Text Box 9" descr=""/>
            <p:cNvPicPr/>
            <p:nvPr/>
          </p:nvPicPr>
          <p:blipFill>
            <a:blip r:embed="rId1"/>
            <a:stretch/>
          </p:blipFill>
          <p:spPr>
            <a:xfrm>
              <a:off x="476280" y="1384200"/>
              <a:ext cx="491328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533520" y="1523880"/>
              <a:ext cx="4800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Bellringer 4/27/2012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1" name="Text Box 22"/>
          <p:cNvSpPr/>
          <p:nvPr/>
        </p:nvSpPr>
        <p:spPr>
          <a:xfrm>
            <a:off x="228600" y="0"/>
            <a:ext cx="8305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nswer these questions in the firs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3 minutes of cl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304920" y="3962520"/>
            <a:ext cx="8153280" cy="2669400"/>
          </a:xfrm>
          <a:prstGeom prst="rect">
            <a:avLst/>
          </a:prstGeom>
          <a:gradFill rotWithShape="0">
            <a:gsLst>
              <a:gs pos="0">
                <a:srgbClr val="febaa8"/>
              </a:gs>
              <a:gs pos="100000">
                <a:srgbClr val="ffebe7"/>
              </a:gs>
            </a:gsLst>
            <a:lin ang="16200000"/>
          </a:gradFill>
          <a:ln w="9360">
            <a:solidFill>
              <a:srgbClr val="bc755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8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0000"/>
                </a:solidFill>
                <a:latin typeface="Arial"/>
              </a:rPr>
              <a:t>What are indulgences?  What was their purpos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8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0000"/>
                </a:solidFill>
                <a:latin typeface="Arial"/>
              </a:rPr>
              <a:t>Who started the Reformation?  What is the Reformation or what was formed during the Reformatio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8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0000"/>
                </a:solidFill>
                <a:latin typeface="Arial"/>
              </a:rPr>
              <a:t>What were the three main points Martin Luther made when arguing against the teachings of the Roman Catholic Church?  (you can abbreviat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28" descr="wittenberg-door"/>
          <p:cNvPicPr/>
          <p:nvPr/>
        </p:nvPicPr>
        <p:blipFill>
          <a:blip r:embed="rId2"/>
          <a:stretch/>
        </p:blipFill>
        <p:spPr>
          <a:xfrm>
            <a:off x="5778360" y="255600"/>
            <a:ext cx="3273480" cy="3944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20:10:04Z</dcterms:created>
  <dc:creator>admin</dc:creator>
  <dc:description/>
  <dc:language>en-US</dc:language>
  <cp:lastModifiedBy>admin</cp:lastModifiedBy>
  <dcterms:modified xsi:type="dcterms:W3CDTF">2012-04-27T12:04:10Z</dcterms:modified>
  <cp:revision>37</cp:revision>
  <dc:subject/>
  <dc:title>Slide 1</dc:title>
</cp:coreProperties>
</file>